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10FE-1C58-4195-98EE-5BDD5D871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E341-181F-42E2-A12C-4B1EA7B8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0F5B-7555-4B77-8806-1E0EE03D9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A785-0213-4DEB-BAAC-720BAB4C3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CB15-C40D-489C-97FD-A30BECEB4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9443-1E7C-48DF-9B80-0315E243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50DB-AF29-49EB-8318-4274F226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DD8B1-DA3C-495C-A4B7-571232A8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69F72-DE54-43C8-BE31-38CEF898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81D8C-785E-492E-ADCB-CC2812BF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7FC5F-1CE1-4249-AC9F-1C130BEB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8E5E-4666-47BD-BEB7-2BC86E6C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52A4-7D52-4079-BFE2-EE6FDAF1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576C1-883E-4263-B0FE-0C631DC9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60DC-DC01-4B88-AC82-42D73613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5164F-617A-4986-ACF4-8F0290501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1819-BB49-41E8-A6AE-B3D46ACB5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A946-81CE-4E34-844D-1239984C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A812-1A03-45CD-99A8-E97086E1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75BC-4875-4375-8B28-118BE2D9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AF2A-C657-4176-AE13-9CE6CFAA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CC8A-D6F5-4E9E-AC20-DBCEDB13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6B79-D948-4270-BCEE-A6E01864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3D94-55B1-4E5B-BC76-050C9601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3D49-5E53-49B6-89BD-3106696599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2C4C-B5F3-4938-BFCD-720A8666A5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e5ffff"/>
                </a:solidFill>
                <a:latin typeface="Tahoma"/>
              </a:rPr>
              <a:t>Broadband Tests</a:t>
            </a:r>
            <a:br>
              <a:rPr sz="4400"/>
            </a:br>
            <a:r>
              <a:rPr b="0" lang="sv-SE" sz="2400" spc="-1" strike="noStrike">
                <a:solidFill>
                  <a:srgbClr val="e5ffff"/>
                </a:solidFill>
                <a:latin typeface="Tahoma"/>
              </a:rPr>
              <a:t>John Conway</a:t>
            </a:r>
            <a:br>
              <a:rPr sz="2400"/>
            </a:br>
            <a:r>
              <a:rPr b="0" lang="sv-SE" sz="2400" spc="-1" strike="noStrike">
                <a:solidFill>
                  <a:srgbClr val="e5ffff"/>
                </a:solidFill>
                <a:latin typeface="Tahoma"/>
              </a:rPr>
              <a:t>FABRIC F2F-2 </a:t>
            </a:r>
            <a:br>
              <a:rPr sz="2400"/>
            </a:br>
            <a:r>
              <a:rPr b="0" lang="sv-SE" sz="2400" spc="-1" strike="noStrike">
                <a:solidFill>
                  <a:srgbClr val="e5ffff"/>
                </a:solidFill>
                <a:latin typeface="Tahoma"/>
              </a:rPr>
              <a:t>Poznan, Sept 25th 2006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Month 7 PC-EVN  dem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Goals for broadband eVLB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Specification and design of hardware for Onsala-MERLIN dem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Procuring 10Gbit/s Onsala lin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Use of Onsala FABRIC resources manpower/money – in project contex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e5ffff"/>
                </a:solidFill>
                <a:latin typeface="Tahoma"/>
              </a:rPr>
              <a:t>Link Progres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Discussions through SUNET on upgrading our 1Gbit/s to 10Gbit/s (they will negotiate with vendors for us, still waiting for a cost but expect to get this and order soon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Two options, link all the way into Chalmers in Gothenburg (55km)  or connect to trunk in Kungsback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Not absolutely needed until  test in Month 23, Febuary 2008. Purchase depends on price falling/deprecia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Meanwhile Mh has 10Gbit/s already. Traffic goes through Stockholm just like Onsala data– hence can test most of the route in Mh-Jb tests, all except internal Swedish par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46836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e5ffff"/>
                </a:solidFill>
                <a:latin typeface="Tahoma"/>
              </a:rPr>
              <a:t>OPTOSUNE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90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SUNET historically double BW every year. OPTOSUNET is successor to GIGASUNE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Dark fibres leased for a 40Gbit/s backbone- fully implemented e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of 20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Most universities connected at 10Gbit/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Allow both IP and dedicated point-to-poi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wavelengths (cost stucture?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For international transmissions go through NORDUNE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724360" y="765000"/>
            <a:ext cx="2579760" cy="51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e5ffff"/>
                </a:solidFill>
                <a:latin typeface="Tahoma"/>
              </a:rPr>
              <a:t>NORDUNE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619280" y="1557360"/>
            <a:ext cx="5826240" cy="4114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187280" y="5734080"/>
            <a:ext cx="63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Tahoma"/>
              </a:rPr>
              <a:t>Staus as of April  2006, signals go through Stockholm to rest of world, nor sure a direct connection via Copenhagen possible – NORDUNET congress Sept 25th -30th in Göteb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e5ffff"/>
                </a:solidFill>
                <a:latin typeface="Tahoma"/>
              </a:rPr>
              <a:t>Use of Onsala Resourc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Onsala has from EU 1 man-year and 10kEuro for Equipment – how to use that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ahoma"/>
              </a:rPr>
              <a:t>Option  1 – Recruit electronic engineer help work on iBoB with Mh. Ex Intl Masters student now at Berkely Wireless research grou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ahoma"/>
              </a:rPr>
              <a:t>Option 2 – Use to broadband the 25m, fibre plus new IF system. Software control of iBoB.  Testing of network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e5ffff"/>
                </a:solidFill>
                <a:latin typeface="Tahoma"/>
              </a:rPr>
              <a:t>Month 7 Dem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-11520" y="1628640"/>
            <a:ext cx="91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EU forced test to demonstrate/re-establish  a baselin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PC-EVN performance – soaks up contributed manpowe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for us.  Have now got an (almost)  working PC-EVN at Onsal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Scheduled for Friday Oct 20th. Need to start testing N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Part 1 – At 6cm, 256Mbit/s, record to disk at On an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Jb. Then transfer to JIVE. Convert to Mk5 input a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correlate. Should be easy...done several year ago. Who is ensuring this happens at  JIVE 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Part 2 – At 1.3cm, Mh does ’remote recording’ to PC disk a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JIVE.  Jb records to disk, later transfer, translate a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correlator for fring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605640" y="3976560"/>
            <a:ext cx="122040" cy="1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e5ffff"/>
                </a:solidFill>
                <a:latin typeface="Tahoma"/>
              </a:rPr>
              <a:t>FABRIC broadband goals-1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What are we trying to do???? A prototype future eVLBI production system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Will it also do disk recording or just real time?? Major decision between PC-based or FPGA rou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Ideally must service a future EVN correlator which does not exist – can we guess its channelization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Meanwhile we do have MERLIN and LOFAR correlators – maybe we should use them (esp MERLIN) as templa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e5ffff"/>
                </a:solidFill>
                <a:latin typeface="Tahoma"/>
              </a:rPr>
              <a:t>FABRIC broadband goals-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1980720"/>
            <a:ext cx="843588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Research project  in distributed correlation, a  part of the JRA but presently more useful conceptually to seperate from Broadband par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Channelisation.  Present system - many tuna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filters and parallel bits streams. Old reasons, tape track limit, geodesy no longer valid? eMERLIN, eVLA one thick BW. Forget past start from scratch? To minimise complexity a few chanelisation modes only for transmitter? No specific ’spectral line modes’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No of bits. eVLBI without dark fibre (unlike eMERL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and LOFAR) is still transmit channel limited. Do RFI filtering at station end and just transmit 2bit/sampl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Must decide above issues SOON/TODAY to define exact specific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of what we will  build!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e5ffff"/>
                </a:solidFill>
                <a:latin typeface="Tahoma"/>
              </a:rPr>
              <a:t>FABRIC broadband goals-3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868680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No recording, FPGA technology is the way we go???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iBoB ADC does  8bit and can digitise at Nyquist rate either  1pol of 1GHz BW or  2pol  of 512MHz BW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Transmitter wil lhave smart  RFI rejection and outpu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2bits/sample. ’Notch out’ filtering and outputs a limited number of digitally filtered bandwidths. Say four corresponding t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1024MHz, 512,256,128 MHz?  ( 4 to 1 Gbit/s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Lower limit set by spread of OH maser lines (112MHz) , and whether    network costs for 1Gbit/s are negligble when operati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At input to correlator further channelisation may be done prior to high spectral resolution correlation of multiple narrow channel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e5ffff"/>
                </a:solidFill>
                <a:latin typeface="Tahoma"/>
              </a:rPr>
              <a:t>Interim Goal- EVN stations to eMERLI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Can prototype a new astronomy capability + test out concept prior to new EVN correlat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In general seems reasonable when planning for EVN2010+ – converge on eMERLIN specs BW and  freq ranges for L,C,K, (+add other band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Operational system at L-band. 1 iBoB 512Hz x 2pol giving 4Gbit/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Could expand to have at C and K bands 2 iBoBs, sampling 1GHz of spanned BW at each pol, 2bit sampling, giving 8Gbit/s  - get sqrt(2) sensitivity of eMERLIN – can eMERLIN  obs 2GHz BW sa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time as 1GHz extern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9640" y="4842000"/>
            <a:ext cx="8352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Tahoma"/>
              </a:rPr>
              <a:t>Left.  UV (km)– Coverage for   6 stations MERLIN + Onsala + Wb1  at dec +40deg Right . UV (lambda) shows result of MFS  Multi-frequency thesis for L-band 1300-1800MHz (4Gbit/s data rate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Tahoma"/>
              </a:rPr>
              <a:t>Other possible combinations MERLIN + Onsala only, or include Bonn or Irish telescope.Not a competitor to full EVN or EVN+MERLIN, which even just in Europe  has three times the resolution and 16 st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8900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42920" y="189000"/>
            <a:ext cx="691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16000" y="404640"/>
            <a:ext cx="671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e5ffff"/>
                </a:solidFill>
                <a:latin typeface="Tahoma"/>
              </a:rPr>
              <a:t>UV Coverag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4038480" cy="3030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716360" y="1557360"/>
            <a:ext cx="40388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e5ffff"/>
                </a:solidFill>
                <a:latin typeface="Tahoma"/>
              </a:rPr>
              <a:t>Parameters of 4Gbit/s Dem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Tahoma"/>
              </a:rPr>
              <a:t>Dual Polarization, 512MHz spanned BW, Nyquist sampled, 2bit giving 4Gbit/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Tahoma"/>
              </a:rPr>
              <a:t>Correlate versus eMERLIN 8bit sampled data (16Gbit/s)- potentially has same sensitivity as full 16Gbits/s but no RFI protection – less important on long baselines and can ’notch out’ any strong RFI at Onsala?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Tahoma"/>
              </a:rPr>
              <a:t>Would be very  useful L-band production system, with 25m connected to MERLIN (SEFD=370Jy) . Initial tes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Tahoma"/>
              </a:rPr>
              <a:t>The C and K-band eMERLIN system normally works at  3bit sampling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sv-SE" sz="1800" spc="-1" strike="noStrike">
                <a:solidFill>
                  <a:srgbClr val="ffffff"/>
                </a:solidFill>
                <a:latin typeface="Tahoma"/>
              </a:rPr>
              <a:t>2GHz spanned BW  and 24Gbit/s, can it be switched to the 16Gbit/s, 8bit sampling mode for test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Tahoma"/>
              </a:rPr>
              <a:t>Option 1 – test at K-band, no new fibre of LO system neede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Tahoma"/>
              </a:rPr>
              <a:t>Option 2 – Fibre to 25m, and broadband L and C band LO system. Better for operational system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e5ffff"/>
                </a:solidFill>
                <a:latin typeface="Tahoma"/>
              </a:rPr>
              <a:t>Timelin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DOW has ’Prototype at Onsala station’ and ’overall broadband demo’ by Month 23 (Feb 2008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Also has eMERLIN interfaces available by Month 30 (Sept 2008) – inconsiste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eMERLIN prototype correlator arrives end of 2007. Very hard  to meet Month 23 fringe deadlin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Have DAR at Onsala by  March 2008, software integration and transmitting data from 25m to Jb at 4Gbit/s by that time. By Sept 2008 fringes?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Hire Onsala manpower by June 2007 for 1+ year???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06:20:33Z</dcterms:created>
  <dc:creator> John Conway</dc:creator>
  <dc:description/>
  <dc:language>en-US</dc:language>
  <cp:lastModifiedBy> John Conway</cp:lastModifiedBy>
  <dcterms:modified xsi:type="dcterms:W3CDTF">2006-09-25T12:31:59Z</dcterms:modified>
  <cp:revision>33</cp:revision>
  <dc:subject/>
  <dc:title>eVLBI  Science CBD Jodrell Nov 18th 2004</dc:title>
</cp:coreProperties>
</file>